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ct" ContentType="image/x-pict"/>
  <Override PartName="/ppt/media/image9.png" ContentType="image/png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197-9FFE-4E0B-80E3-2F3DE1FF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ADB-4500-4630-A452-DD7E356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08E-C332-4FFE-8EA7-1F165002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C7F-4704-4B74-BF7D-D9FA5F6A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43D-C1D0-43A1-A5EE-9EA5D47D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3EF-1095-4E12-A965-CF8C000B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602-1981-49D1-AB2C-9FAC7CB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91A-600E-40F6-8098-59663CF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250-1A2B-4F60-AD14-8D239D3A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375-C42A-4EDF-8E97-706193C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FD6-8EB2-4704-85B7-2232ACCA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1F0-7A45-4BB6-8DC5-5DC312D8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22D4-A6C4-4BD5-AAB7-D6E343B1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12960" y="2285640"/>
            <a:ext cx="101725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e With Powerpo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with a little eX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76440" y="6326280"/>
            <a:ext cx="520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a.m. enterpri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8-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3714840"/>
            <a:ext cx="321768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120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8800" y="2004840"/>
            <a:ext cx="9145440" cy="558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975880" y="3308400"/>
            <a:ext cx="803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t G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940120"/>
            <a:ext cx="546084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ty Bit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2725560"/>
            <a:ext cx="14479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3800" y="3511440"/>
            <a:ext cx="14097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etric Measurem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 Tam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6629400"/>
            <a:ext cx="807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Quick &amp; Easy PowerPoint Activities by Tammy Worc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ons Technology in Education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er is about the size of a yardstick plus one piece of ch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70080" y="4317840"/>
            <a:ext cx="6265440" cy="338040"/>
            <a:chOff x="1270080" y="4317840"/>
            <a:chExt cx="6265440" cy="338040"/>
          </a:xfrm>
        </p:grpSpPr>
        <p:sp>
          <p:nvSpPr>
            <p:cNvPr id="133" name=""/>
            <p:cNvSpPr/>
            <p:nvPr/>
          </p:nvSpPr>
          <p:spPr>
            <a:xfrm>
              <a:off x="1270080" y="4317840"/>
              <a:ext cx="6265440" cy="338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3928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88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80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472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168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552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247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939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31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7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019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11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410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02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794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490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82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874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569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261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53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649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41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033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732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424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164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12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504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1960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91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3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2756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71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663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35520" y="431784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50280" y="4638600"/>
            <a:ext cx="314496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yard = 36 inch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70080" y="5504040"/>
            <a:ext cx="6941520" cy="337680"/>
            <a:chOff x="1270080" y="5504040"/>
            <a:chExt cx="6941520" cy="337680"/>
          </a:xfrm>
        </p:grpSpPr>
        <p:sp>
          <p:nvSpPr>
            <p:cNvPr id="173" name=""/>
            <p:cNvSpPr/>
            <p:nvPr/>
          </p:nvSpPr>
          <p:spPr>
            <a:xfrm>
              <a:off x="1270080" y="5504040"/>
              <a:ext cx="6941520" cy="337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72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52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327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203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82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958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830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709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584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460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339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215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87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66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842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717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596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72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44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23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099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974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854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729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601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80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356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232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111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986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8588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738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6136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92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3684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244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11600" y="5504040"/>
              <a:ext cx="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50280" y="5842080"/>
            <a:ext cx="383076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meter = 39.37  inch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35880" y="4572000"/>
            <a:ext cx="592200" cy="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34440" y="4064040"/>
            <a:ext cx="10252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hal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ntimeter is about the width of a sugar c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99080" y="4572000"/>
            <a:ext cx="1143000" cy="11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9040" y="4910040"/>
            <a:ext cx="10054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Kil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little more than a half 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0160" y="53341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0016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0016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7820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5624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65800" y="569592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58160" y="569592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5840" y="4402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7880" y="3894120"/>
            <a:ext cx="1015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13920" y="4402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05960" y="3894120"/>
            <a:ext cx="1015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 M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79960" y="4402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894120"/>
            <a:ext cx="1015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5 M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72160" y="491004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41920" y="4487760"/>
            <a:ext cx="186192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 Kilome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07880" y="5672160"/>
            <a:ext cx="163620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622 m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Ki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logram weighs a little more than 2 cans of be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24040" y="4317840"/>
            <a:ext cx="1355760" cy="2370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02080" y="4317840"/>
            <a:ext cx="1355760" cy="2370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30600" y="5232240"/>
            <a:ext cx="19821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 kilogram =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2 pou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weighs about as much as a paper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504040" y="3809880"/>
            <a:ext cx="8236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245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09640" y="1935000"/>
            <a:ext cx="7689960" cy="567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8720" y="2674800"/>
            <a:ext cx="13986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-riffic be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79560" y="3511440"/>
            <a:ext cx="138744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35320" y="2914560"/>
            <a:ext cx="1314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ty Bit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2819520"/>
            <a:ext cx="30016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ot Ga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4876920"/>
            <a:ext cx="54864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hryn Myer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172200"/>
            <a:ext cx="5952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yers@richmond.k12.va.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8499600" cy="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781680" y="533520"/>
          <a:ext cx="2057400" cy="152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33520"/>
                    <a:ext cx="20574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38080" y="2438280"/>
            <a:ext cx="70866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citewithppt.wikispaces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38040" y="762120"/>
            <a:ext cx="1863720" cy="1100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7880" y="5164200"/>
            <a:ext cx="1184400" cy="110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7880" y="1862280"/>
            <a:ext cx="1184400" cy="1101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7880" y="2963880"/>
            <a:ext cx="118440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7880" y="4064040"/>
            <a:ext cx="1184400" cy="1100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7880" y="6265800"/>
            <a:ext cx="118440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62280" y="6265800"/>
            <a:ext cx="11858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6265800"/>
            <a:ext cx="118584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33960" y="6265800"/>
            <a:ext cx="1184040" cy="1100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8000" y="6265800"/>
            <a:ext cx="11858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8000" y="5164200"/>
            <a:ext cx="1185840" cy="110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8000" y="4064040"/>
            <a:ext cx="11858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8000" y="2963880"/>
            <a:ext cx="118584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8000" y="1862280"/>
            <a:ext cx="1185840" cy="110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8000" y="762120"/>
            <a:ext cx="118584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03840" y="762120"/>
            <a:ext cx="1186200" cy="1100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90040" y="762120"/>
            <a:ext cx="11840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74080" y="762120"/>
            <a:ext cx="1185840" cy="1100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0" y="2540160"/>
            <a:ext cx="24782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cabulary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oll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027920" y="3218040"/>
            <a:ext cx="3131640" cy="1777320"/>
            <a:chOff x="7027920" y="3218040"/>
            <a:chExt cx="3131640" cy="1777320"/>
          </a:xfrm>
        </p:grpSpPr>
        <p:sp>
          <p:nvSpPr>
            <p:cNvPr id="272" name=""/>
            <p:cNvSpPr/>
            <p:nvPr/>
          </p:nvSpPr>
          <p:spPr>
            <a:xfrm>
              <a:off x="7112520" y="3556080"/>
              <a:ext cx="2877480" cy="11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Game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27920" y="3218040"/>
              <a:ext cx="3131640" cy="177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9821880" y="990720"/>
            <a:ext cx="1015920" cy="677880"/>
          </a:xfrm>
          <a:prstGeom prst="rightArrow">
            <a:avLst>
              <a:gd name="adj1" fmla="val 50000"/>
              <a:gd name="adj2" fmla="val 374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762120"/>
            <a:ext cx="11858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5840" y="4064040"/>
            <a:ext cx="1184400" cy="1100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85840" y="762120"/>
            <a:ext cx="118440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85840" y="1862280"/>
            <a:ext cx="1184400" cy="110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85840" y="2963880"/>
            <a:ext cx="118440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5840" y="5164200"/>
            <a:ext cx="1184400" cy="110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5840" y="6265800"/>
            <a:ext cx="1184400" cy="1100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70240" y="6265800"/>
            <a:ext cx="11858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56080" y="6265800"/>
            <a:ext cx="118584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41920" y="6265800"/>
            <a:ext cx="11840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1920" y="5164200"/>
            <a:ext cx="1184040" cy="110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41920" y="4064040"/>
            <a:ext cx="1184040" cy="1100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41920" y="2963880"/>
            <a:ext cx="11840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41920" y="1862280"/>
            <a:ext cx="1184040" cy="110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41920" y="762120"/>
            <a:ext cx="1184040" cy="1100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25960" y="762120"/>
            <a:ext cx="1186200" cy="1100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12160" y="762120"/>
            <a:ext cx="11858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0" y="762120"/>
            <a:ext cx="1184040" cy="1100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58160" y="4064040"/>
            <a:ext cx="1863720" cy="11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98000" y="2963880"/>
            <a:ext cx="1184040" cy="110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98000" y="1862280"/>
            <a:ext cx="1184040" cy="1101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70240" y="2963880"/>
            <a:ext cx="1185840" cy="1100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56080" y="2963880"/>
            <a:ext cx="1185840" cy="1100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24040" y="3218040"/>
            <a:ext cx="762120" cy="591840"/>
          </a:xfrm>
          <a:prstGeom prst="rightArrow">
            <a:avLst>
              <a:gd name="adj1" fmla="val 50000"/>
              <a:gd name="adj2" fmla="val 3219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218040"/>
            <a:ext cx="762120" cy="591840"/>
          </a:xfrm>
          <a:prstGeom prst="rightArrow">
            <a:avLst>
              <a:gd name="adj1" fmla="val 50000"/>
              <a:gd name="adj2" fmla="val 3219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319400" cy="160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-507960" y="998640"/>
            <a:ext cx="1015920" cy="677880"/>
          </a:xfrm>
          <a:prstGeom prst="rightArrow">
            <a:avLst>
              <a:gd name="adj1" fmla="val 50000"/>
              <a:gd name="adj2" fmla="val 374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ti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ntidr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s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, opposit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disresp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07960" y="67788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, opposit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non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prew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68440" y="2077920"/>
            <a:ext cx="7550280" cy="345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823160" y="4272120"/>
            <a:ext cx="1109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t G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819520"/>
            <a:ext cx="26319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ty Bit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97160" y="4284720"/>
            <a:ext cx="2471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438280"/>
            <a:ext cx="27288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ain or 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e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7960" y="592200"/>
            <a:ext cx="9313920" cy="635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n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00160" y="1100160"/>
            <a:ext cx="7959600" cy="516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un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0" y="0"/>
            <a:ext cx="10159920" cy="711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R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318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24080" y="3481560"/>
            <a:ext cx="391176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2e00"/>
                </a:solidFill>
                <a:latin typeface="Arial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ryn My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yers@richmond.k12.va.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933560"/>
            <a:ext cx="9145440" cy="568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75600" y="3295800"/>
            <a:ext cx="7574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58000" y="3765600"/>
            <a:ext cx="14223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ty Bit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eeny Ti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4880" y="2952720"/>
            <a:ext cx="13986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920" y="3003480"/>
            <a:ext cx="548496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, You ar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05320" y="91440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acques Cartier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as T-riffic because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2800" y="429264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from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960" y="4919760"/>
            <a:ext cx="47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nted to colonize the New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5830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explored the St. Lawrence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81600" y="2300400"/>
            <a:ext cx="2419200" cy="182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5840" y="96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362320" y="2286000"/>
            <a:ext cx="5790960" cy="2971800"/>
            <a:chOff x="2362320" y="2286000"/>
            <a:chExt cx="5790960" cy="2971800"/>
          </a:xfrm>
        </p:grpSpPr>
        <p:sp>
          <p:nvSpPr>
            <p:cNvPr id="67" name=""/>
            <p:cNvSpPr/>
            <p:nvPr/>
          </p:nvSpPr>
          <p:spPr>
            <a:xfrm>
              <a:off x="2362320" y="2286000"/>
              <a:ext cx="5790960" cy="297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9019"/>
                  </a:srgbClr>
                </a:gs>
                <a:gs pos="100000">
                  <a:srgbClr val="e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3352680"/>
              <a:ext cx="548460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Let’s Give It a Try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3240" y="2077920"/>
            <a:ext cx="914580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7520" y="3168720"/>
            <a:ext cx="1434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 am, You a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-rrific be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61480" y="3333600"/>
            <a:ext cx="757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56480" y="3790800"/>
            <a:ext cx="1447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tty Bitty Ti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ni-Bo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82960" y="3092400"/>
            <a:ext cx="54846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. Gall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023320" y="5038560"/>
            <a:ext cx="2030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778040"/>
            <a:ext cx="3641760" cy="38941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5079960" cy="762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r. Gall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7996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016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8012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9412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7008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-846720" y="3978720"/>
            <a:ext cx="2793960" cy="4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3132720" y="3555000"/>
            <a:ext cx="2793960" cy="4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1862280" y="3301200"/>
            <a:ext cx="2793960" cy="42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507240" y="4233960"/>
            <a:ext cx="2793960" cy="422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079960" y="3726000"/>
            <a:ext cx="507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5587920"/>
            <a:ext cx="507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64200" y="1947960"/>
            <a:ext cx="49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5226840" y="954720"/>
            <a:ext cx="8031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5226840" y="6288840"/>
            <a:ext cx="8031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 rot="5400000">
            <a:off x="5226120" y="4341960"/>
            <a:ext cx="8049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5226120" y="2563920"/>
            <a:ext cx="804960" cy="24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45020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35880" y="1015920"/>
            <a:ext cx="262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50200" y="6519960"/>
            <a:ext cx="270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50200" y="4656240"/>
            <a:ext cx="270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50200" y="2878200"/>
            <a:ext cx="270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7794720" y="676656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7794720" y="592056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5400000">
            <a:off x="7625520" y="4988520"/>
            <a:ext cx="425520" cy="2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 rot="5400000">
            <a:off x="7795440" y="4057560"/>
            <a:ext cx="42408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7711200" y="3126600"/>
            <a:ext cx="42516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7794720" y="236448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 rot="5400000">
            <a:off x="7878960" y="143244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7711200" y="332640"/>
            <a:ext cx="42516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8720280" y="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6327360" y="954000"/>
            <a:ext cx="8031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6327360" y="6288120"/>
            <a:ext cx="8031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6326280" y="4340880"/>
            <a:ext cx="8049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6326280" y="2562840"/>
            <a:ext cx="804960" cy="2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 rot="5400000">
            <a:off x="9065520" y="6851520"/>
            <a:ext cx="42408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9064800" y="600444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8895600" y="5073480"/>
            <a:ext cx="42408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9064800" y="414252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 rot="5400000">
            <a:off x="8981280" y="3210480"/>
            <a:ext cx="425520" cy="2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9064800" y="2448720"/>
            <a:ext cx="4255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 rot="5400000">
            <a:off x="9150120" y="1517760"/>
            <a:ext cx="42372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5400000">
            <a:off x="8981280" y="416520"/>
            <a:ext cx="425520" cy="2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ark Wenberg</cp:lastModifiedBy>
  <dcterms:modified xsi:type="dcterms:W3CDTF">2008-11-04T13:20:14Z</dcterms:modified>
  <cp:revision>25</cp:revision>
  <dc:subject/>
  <dc:title>PowerPoint Presentation</dc:title>
</cp:coreProperties>
</file>